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024A-7176-4C82-8E5C-6DCA1C5E4D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66C-43CB-416E-AA81-10A0FD5A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8EA-A265-4028-9E6E-F3BD2821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034-D69C-4A80-A58C-EFAD962D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BA8-D528-4E7E-A0B2-F2859AB3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33F-D662-4D17-AAE4-BE59392C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293-1AF4-491F-9CAB-12AF695E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3D3-77B3-409F-9CF2-5299C245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C78-B7D9-40CF-8387-315698A4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D7F-6DBD-4C67-8B6D-2BA035C4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DCE-24C9-4573-A3BE-2AD9A605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50F-DF56-4672-BAC8-7962DD61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F2F-24CA-4938-BE57-A55B0671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F069-B992-401B-9213-594F686B6C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and the Periodic Table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We can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assif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(arrange) elements in different ways:-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aturally occurring/made b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solid/liquid/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etal/non-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"/>
          <p:cNvPicPr/>
          <p:nvPr/>
        </p:nvPicPr>
        <p:blipFill>
          <a:blip r:embed="rId4"/>
          <a:stretch/>
        </p:blipFill>
        <p:spPr>
          <a:xfrm>
            <a:off x="7740720" y="4267080"/>
            <a:ext cx="1403280" cy="105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5"/>
          <a:stretch/>
        </p:blipFill>
        <p:spPr>
          <a:xfrm>
            <a:off x="5029200" y="5486400"/>
            <a:ext cx="1447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6"/>
          <a:stretch/>
        </p:blipFill>
        <p:spPr>
          <a:xfrm>
            <a:off x="6705720" y="54864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7"/>
          <a:stretch/>
        </p:blipFill>
        <p:spPr>
          <a:xfrm>
            <a:off x="4952880" y="2666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492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400800" y="15238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04000" y="177336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O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2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2590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2565360"/>
            <a:ext cx="381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516720" y="3141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962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51280" y="1557360"/>
            <a:ext cx="2397240" cy="1951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95640" y="2924280"/>
            <a:ext cx="208908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716360" y="3573360"/>
            <a:ext cx="1800360" cy="7192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858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–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mor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562720" y="2742840"/>
            <a:ext cx="2590560" cy="20574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Isotop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Isotopes are: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toms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 element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which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different mass number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due to </a:t>
            </a:r>
            <a:r>
              <a:rPr b="1" lang="en-GB" sz="3600" spc="-1" strike="noStrike">
                <a:solidFill>
                  <a:srgbClr val="ab04cc"/>
                </a:solidFill>
                <a:latin typeface="Times New Roman"/>
              </a:rPr>
              <a:t>different numbers of neutron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n each nucleu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Most elements exist as 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mixture of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, e.g.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16000" y="51562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765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16000" y="5877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508720" y="515628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199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508720" y="587700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lative atomic mas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relative atomic mas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an element is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average mass of all the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at element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relative atomic mass of chlorine is 35.5. 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3860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5088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90720" y="47242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5640" y="3860640"/>
            <a:ext cx="89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94360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410080" y="4724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5410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o the isotope of mass 35 is present in the largest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of th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lists the chemical elements in increasing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atomic number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arranges elements with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chemical properties in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s (vertical columns)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ll the elements in a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chemical properti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as they have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ame number of outer electron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87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 of the element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s a useful way of classifying the elements.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vertical column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elements in the periodic table is called a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elements in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have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imilar chemical propertie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are a group of very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unreactiv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2" name="Picture 1033" descr=""/>
          <p:cNvPicPr/>
          <p:nvPr/>
        </p:nvPicPr>
        <p:blipFill>
          <a:blip r:embed="rId1"/>
          <a:stretch/>
        </p:blipFill>
        <p:spPr>
          <a:xfrm>
            <a:off x="8317080" y="1484280"/>
            <a:ext cx="68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s of elements have names: –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7621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1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1337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Between groups 2 and 3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" y="3657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7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461440" y="0"/>
            <a:ext cx="68256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724280" y="36576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0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791320" y="504504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6553080" y="2209680"/>
            <a:ext cx="1905120" cy="146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24000" y="134136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alkali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80880" y="2708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transition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1280" y="422100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halo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788000" y="422100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Every element is made up of very small particles called 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773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of different elements have a different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umber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all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ic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3573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have a very small,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l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with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ly 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outside the nucleu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energy leve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every atom (except hydrogen) contai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two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particles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2565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eu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no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809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In </a:t>
            </a:r>
            <a:r>
              <a:rPr b="1" lang="en-GB" sz="4000" spc="-1" strike="noStrike">
                <a:solidFill>
                  <a:srgbClr val="ab04cc"/>
                </a:solidFill>
                <a:latin typeface="Times New Roman"/>
              </a:rPr>
              <a:t>energy level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utside the nucleus we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1803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rot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+ve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–ve charge / mas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   1/2000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are neutral because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is equal to all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dded together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81280" y="2438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581280" y="2971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0" y="43434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ositive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268360" y="2781360"/>
            <a:ext cx="1371600" cy="763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676520" y="3276720"/>
            <a:ext cx="685800" cy="761760"/>
          </a:xfrm>
          <a:prstGeom prst="line">
            <a:avLst/>
          </a:prstGeom>
          <a:ln w="1260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0" y="3886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76200" y="4937040"/>
            <a:ext cx="876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  <a:ea typeface="Times New Roman"/>
              </a:rPr>
              <a:t> are neutral because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number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of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  <a:ea typeface="Times New Roman"/>
              </a:rPr>
              <a:t>prot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nd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r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equal - the opposite charges canc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ato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43640" y="249228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2952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7010280" y="2362320"/>
            <a:ext cx="14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43640" y="3284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2819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156360" y="328464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443640" y="400536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1148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076720" y="2205000"/>
            <a:ext cx="1371600" cy="4572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851280" y="3141720"/>
            <a:ext cx="2592360" cy="35856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4788000" y="4368600"/>
            <a:ext cx="1671480" cy="6804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have no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, the number of electro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is the sam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s the number of protons. This atom has 17 electr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372360" y="1628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77080" y="1773360"/>
            <a:ext cx="226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Na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43640" y="2492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84720" y="2492280"/>
            <a:ext cx="38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43640" y="3068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492360" y="1557360"/>
            <a:ext cx="2808360" cy="3589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851280" y="2924280"/>
            <a:ext cx="216072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4788000" y="3500280"/>
            <a:ext cx="1655640" cy="6480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0666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+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les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495680" y="2590920"/>
            <a:ext cx="4191120" cy="22096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2:03:51Z</dcterms:created>
  <dc:creator>Brouchamp Xavier</dc:creator>
  <dc:description/>
  <dc:language>en-US</dc:language>
  <cp:lastModifiedBy>RomaK</cp:lastModifiedBy>
  <dcterms:modified xsi:type="dcterms:W3CDTF">2015-09-01T16:17:06Z</dcterms:modified>
  <cp:revision>118</cp:revision>
  <dc:subject/>
  <dc:title>Atoms and the periodic table</dc:title>
</cp:coreProperties>
</file>